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53A-CA8F-4D7C-AD9A-B502A80A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354-8120-43C5-8464-61748C4C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7B8-5C90-4B93-9759-7DBBDF22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3C8-34BE-48B7-9F89-0285F2FD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BE4-4532-42A7-9AD7-260EBF2F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507-8B49-4A9B-A26D-982C7E30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2A0-C20A-448A-A3DE-BEE45891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DFD-D53A-4105-840D-855CFA65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CEE-123B-498C-9D09-F5673D0A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43C-38AA-48FB-98CC-5BB80250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815-BF66-4FB3-ACC3-42E37973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F0A-5EC3-4919-A3D3-3A7534A5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DA3E-F0C9-4CBB-951A-F6D577B8B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1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609480"/>
            <a:ext cx="3581280" cy="29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6 hilos por pulg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oble entrada (rosca do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iámtero mayor = 1 pulg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0.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1.25 pulg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F = 1500 lb por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33720" y="4572000"/>
            <a:ext cx="1904760" cy="165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7242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ormaliz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42670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416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4495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6960" y="5334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53341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n 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426708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57913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44956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9167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5257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8333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0.333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7280" y="16207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01000" y="13222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213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184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42920" y="1316160"/>
            <a:ext cx="15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+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65880" y="184932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1849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146844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1468440"/>
            <a:ext cx="75960" cy="76212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3640" y="1627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77120" y="1265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31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8558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2760" y="76212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  contra la carg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640" y="3581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4440" y="335268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0600" y="395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3879720"/>
            <a:ext cx="16761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4920" y="3303720"/>
            <a:ext cx="29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0.33 +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0.08 ·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1120" y="38368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9167 - 0.08 ·0.33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505320"/>
            <a:ext cx="75960" cy="76176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350532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4000" y="3581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4520" y="32004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692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8680" y="48769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136 + 75 = 211 lb · pul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3809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378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78000" y="12952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  a favor de la carg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5008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4380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412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86440" y="213372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9400" y="266688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22860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28924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31000" y="2392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24480" y="2030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40480" y="262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26208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3040" y="403236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7280" y="365760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08 ·0.9167 - 0.33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6560" y="426708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9167 + 0.08 · 0.333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8098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809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4000" y="39625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63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5840" y="373392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200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260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4520" y="36576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92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240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97240" y="5181480"/>
            <a:ext cx="45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-24.4 + 75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  50 lb · pul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520" y="12952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ficiencia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7280" y="188280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3080" y="15843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209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2880" y="3330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4360" y="30322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1500 · 0.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 ·2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0" y="472428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37.7 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38640" cy="2867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724360" y="404640"/>
            <a:ext cx="213552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0 – 36 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= 5/8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’ = 18.4 k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30 M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12 M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= 1.5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3716280"/>
                <a:ext cx="43927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508720" y="4149720"/>
                <a:ext cx="2735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627280" y="0"/>
                <a:ext cx="3543480" cy="55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79640" y="5445000"/>
                <a:ext cx="47577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859280" y="2637000"/>
            <a:ext cx="288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3880" y="1397160"/>
            <a:ext cx="398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916360" y="549360"/>
                <a:ext cx="2519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959120" y="1938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191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27640" y="191628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191628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036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24922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2.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1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600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4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34936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84360" y="191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348000" y="3284640"/>
                <a:ext cx="2664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340000" y="4005360"/>
                <a:ext cx="1584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48360" y="4005360"/>
                <a:ext cx="1834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kps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284720" y="4797360"/>
                <a:ext cx="3959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11280" y="5013360"/>
                <a:ext cx="2881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ki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13:18:49Z</dcterms:created>
  <dc:creator>Roberto Corvalán Paiva</dc:creator>
  <dc:description/>
  <dc:language>en-US</dc:language>
  <cp:lastModifiedBy>Roberto Corvalán Paiva</cp:lastModifiedBy>
  <dcterms:modified xsi:type="dcterms:W3CDTF">2002-08-21T13:59:08Z</dcterms:modified>
  <cp:revision>4</cp:revision>
  <dc:subject/>
  <dc:title>Diapositiva 1</dc:title>
</cp:coreProperties>
</file>